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65CA-40D6-479E-BA3A-32B64C1A20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EE10-E8CC-4479-8945-4823333C6A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6133-D68E-4746-85B1-70A431720F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D1AC-E48E-40BC-8E65-E50E0D8633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A023-1A09-407B-B5F5-167B37CD04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6827-7F23-4017-AA6C-B0857F5FF5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01D2-2929-4B02-84B9-2587805E67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7186-3847-4EBA-BD1F-6B5FDE06A5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D151-F8BF-4A3F-8BB3-9D3547A07F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3880-6F39-4150-B8A0-5B4DC300E9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E79C-2EF3-4A9E-9D94-0BCAE9914F5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481D-3E31-4C08-820E-8855101A51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BDF6-ACC0-473D-BAB3-F8F2D6C610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035C-5D8D-4A5A-8330-D5640ED8B1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9BD0-97AB-417B-9FB6-99F9AFB2AD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BBFD-EC9B-4710-AF4E-F57E88F4F4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A1EF-AE1C-4086-A281-CA4E933115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CBB6-B7C5-4E93-B5CD-6800E46E90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7E86-06AF-4524-B1B4-E6C4691446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FD7E-F6F4-475E-AE0B-D7F4B4626C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9C2E-0DC1-407C-AE8A-6055F17B5D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9CB6-2485-4E0B-8A69-63940CF870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5622-BD79-4ACB-B7D9-E90E215F145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A199-8C3D-423F-A7C2-2499B5D20B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465B-2D69-43D8-AD33-9E52218CE8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A518-E765-4CDB-84F0-86FED90BE8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4DCE-0CCF-4CF5-A7D2-6EB89C27A7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93E0-AEC6-417D-A16B-D8A223BFF4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0493-BFA2-4061-A288-538FD8DDA4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F69-23FB-453E-AEC1-D79A31AA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6A86-3A4D-4AF5-AD61-F5E921EA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FB80-699A-4491-9BBD-CEB74B08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A67-3821-4188-916F-6211260C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FFE7-53EA-49C5-A769-7826F5B6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3251-05A7-408D-B96F-5F770228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4187-6D17-4E58-A8ED-8238D5A5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2AA8-ACE4-4839-80A7-0E649531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FE1D-20EB-4CE9-959D-6EFFBE3E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2821-47F7-4474-8E6E-418207E0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D278-3651-43C3-8FBE-8AD59FF6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A8A6-41FA-4B63-BA3B-AEA31B52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C534-77D0-41FC-8AF1-71E0424C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185D-9BC8-45BD-9CEB-EDB70BF4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6242-0824-47E1-92A4-4A977634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4632-0597-402D-A521-B3463324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F4DC-A662-4266-B426-E1C7B01A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673A-C1D1-401F-A976-5350CB7E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423-C914-4361-8B8D-703A6FC7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9585-E7B4-4DF8-9805-8734BA79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8FD-87D2-4180-8014-C1AF0630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E02A-750F-4BDC-A951-A38225DE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15EE-21E9-4FCC-94D3-6292AC31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7BE-BB9D-49AC-8004-B555173B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718D-E808-400C-B62B-4646E20CC6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DB07-B759-4748-BD01-41DA569925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ctivities.macmillanmh.com/science/ca/scienceinmotion/Common/SIM.html?Module=../Grade5/Chapter7-SeparatingMixtures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bbc.co.uk/schools" TargetMode="External"/><Relationship Id="rId2" Type="http://schemas.openxmlformats.org/officeDocument/2006/relationships/hyperlink" Target="http://www.bbc.co.uk/schools" TargetMode="External"/><Relationship Id="rId3" Type="http://schemas.openxmlformats.org/officeDocument/2006/relationships/hyperlink" Target="http://www.bbc.co.uk/schools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ater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resources.schoolscience.co.uk/ICI/11-14/materials/match3pg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zephyrus.co.uk/separatingmixtures3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rrespondence.school.nz/departments/science/chemistry/web/home/chemistry/substances/mixture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SSON 1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876560" cy="48769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4">
            <a:hlinkClick r:id="" action="ppaction://hlinkshowjump?jump=nextslide"/>
          </p:cNvPr>
          <p:cNvSpPr/>
          <p:nvPr/>
        </p:nvSpPr>
        <p:spPr>
          <a:xfrm>
            <a:off x="6324480" y="6019920"/>
            <a:ext cx="2590920" cy="457200"/>
          </a:xfrm>
          <a:prstGeom prst="rightArrow">
            <a:avLst>
              <a:gd name="adj1" fmla="val 50000"/>
              <a:gd name="adj2" fmla="val 1416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terogeneous mix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074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Heterogeneous mixtures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are mixtures that do not appear to be the same throughou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 particles that are large enough to be seen they can be separated from the mixtur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individual substances may be in a different phase (state of matter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cre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ach sand is heterogeneous since you can see different colored partic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inegar and oil salad dressing is heterogeneous since two liquid layers are present, as well as solid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4">
            <a:hlinkClick r:id="" action="ppaction://hlinkshowjump?jump=nextslide"/>
          </p:cNvPr>
          <p:cNvSpPr/>
          <p:nvPr/>
        </p:nvSpPr>
        <p:spPr>
          <a:xfrm>
            <a:off x="5334120" y="632448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ogeneous mix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Homogenous mixture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appear to be the same throughout.  There are not particles floating around that you can se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individual substances are found in the same phase (state of matter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rn oil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ite vinega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sugar solu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salt solu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Separating Mixtures: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How would you separate the mixtures below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Beach sand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Vinegar and oil salad dressing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sugar solutio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371600" y="3809880"/>
            <a:ext cx="73137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re are several methods of separating mixtures…go to the next slide and complete the activity to learn about a few separation metho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304920"/>
            <a:ext cx="7467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parating Mixtur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16002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activities.macmillanmh.com/science/ca/scienceinmotion/Common/SIM.html?Module=../Grade5/Chapter7-SeparatingMixtures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2489040"/>
            <a:ext cx="845820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link above and complete the follow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 the video and record notes in your science notebook showing the various methods of separating mixtures present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Next” when finished to watch real examples of these methods in use.  If you left something out of your original notes, add it no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Next” to complete the quiz game sho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each of your group members’ names in the space for your name and select any character you lik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e six questions and record your sco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4">
            <a:hlinkClick r:id="" action="ppaction://hlinkshowjump?jump=nextslide"/>
          </p:cNvPr>
          <p:cNvSpPr/>
          <p:nvPr/>
        </p:nvSpPr>
        <p:spPr>
          <a:xfrm>
            <a:off x="5334120" y="640080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3000" y="123480"/>
            <a:ext cx="73137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ixture made of solid particles of different sizes, for example sand and gravel, can be separated by putting it through a siev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Illustration of sieve with gravel staying in sieve and sand falling through into a pile below"/>
          <p:cNvPicPr/>
          <p:nvPr/>
        </p:nvPicPr>
        <p:blipFill>
          <a:blip r:embed="rId1"/>
          <a:stretch/>
        </p:blipFill>
        <p:spPr>
          <a:xfrm>
            <a:off x="1295280" y="2446200"/>
            <a:ext cx="7086600" cy="44118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2819520" y="6400800"/>
            <a:ext cx="1052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bbc.co.uk/school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4">
            <a:hlinkClick r:id="" action="ppaction://hlinkshowjump?jump=nextslide"/>
          </p:cNvPr>
          <p:cNvSpPr/>
          <p:nvPr/>
        </p:nvSpPr>
        <p:spPr>
          <a:xfrm>
            <a:off x="7010280" y="601992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90720" y="76320"/>
            <a:ext cx="761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mixture of water and an insoluble substance like sand can be separated by filtering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6183360" y="6613560"/>
            <a:ext cx="19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bbc.co.uk/school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5" descr="Illustration of sand in filter and water dropping into beaker beneath"/>
          <p:cNvPicPr/>
          <p:nvPr/>
        </p:nvPicPr>
        <p:blipFill>
          <a:blip r:embed="rId1"/>
          <a:stretch/>
        </p:blipFill>
        <p:spPr>
          <a:xfrm>
            <a:off x="3200400" y="1714680"/>
            <a:ext cx="3024360" cy="51433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4">
            <a:hlinkClick r:id="" action="ppaction://hlinkshowjump?jump=nextslide"/>
          </p:cNvPr>
          <p:cNvSpPr/>
          <p:nvPr/>
        </p:nvSpPr>
        <p:spPr>
          <a:xfrm>
            <a:off x="7010280" y="601992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Conclusions: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In your notes, copy and answer the following question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me and draw a mixture that shows separation with a sieve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me and draw a mixture that shows separation by filtering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4">
            <a:hlinkClick r:id="" action="ppaction://hlinkshowjump?jump=nextslide"/>
          </p:cNvPr>
          <p:cNvSpPr/>
          <p:nvPr/>
        </p:nvSpPr>
        <p:spPr>
          <a:xfrm>
            <a:off x="5334120" y="609588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SSON 2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4876920" cy="389556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Objective</a:t>
            </a:r>
            <a:br>
              <a:rPr sz="3600"/>
            </a:br>
            <a:fld id="{3F9D69F0-C678-4EE9-91AD-4B2507AF70B3}" type="datetime2">
              <a:rPr b="1" lang="en-US" sz="1800" spc="-1" strike="noStrike">
                <a:solidFill>
                  <a:srgbClr val="006666"/>
                </a:solidFill>
                <a:latin typeface="Arial"/>
              </a:rPr>
              <a:t>Wednesday, July 29, 2026</a:t>
            </a:fld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Students will be able to…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ssify matter into mixtures and pure substanc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e the term “mixture”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y examples of mixt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y methods for separating mixt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estion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2064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Why is a chocolate chip cookie considered a mixture?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62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cuss with your group and answer in your science notebook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990720" y="3429000"/>
            <a:ext cx="71625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Mixtures and Separation</a:t>
            </a: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y Computer…K-Shared Drive…Cris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2244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udents will be able to…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assify matter into mixtures and pure substanc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the term “mixture”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 10 examples of mixtu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, define and give an example of the 2 types of mixtu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 and describe 4 methods for separating mixtu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86728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KE NOTES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hocolate Chip Cook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are mixtures because they are made up of 2 different substances mixed together (cookie and chocolate chips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ndividual parts keep their original properti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parts can be separated easily by physical mea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33360" cy="123192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4571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Review: What is a </a:t>
            </a: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mixture</a:t>
            </a: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?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mixture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is a </a:t>
            </a: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combination of two or more substances that can be separated by physical means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Each substance in a mixture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keeps its individual properties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66"/>
                </a:solidFill>
                <a:uFillTx/>
                <a:latin typeface="Arial"/>
              </a:rPr>
              <a:t>Separation Methods: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sing a </a:t>
            </a: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sieve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fil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4267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xture made o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d particles of differ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s, for example s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ocks, can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d by putting it        through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ev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990720" y="6613560"/>
            <a:ext cx="1052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bbc.co.uk</a:t>
            </a:r>
            <a:r>
              <a:rPr b="0" lang="en-US" sz="10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/school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bbc.co.uk/school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105520" y="17524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xture of water and an insoluble substance like sand can be separated by filter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7" descr="Illustration of sand in filter and water dropping into beaker beneath"/>
          <p:cNvPicPr/>
          <p:nvPr/>
        </p:nvPicPr>
        <p:blipFill>
          <a:blip r:embed="rId4"/>
          <a:stretch/>
        </p:blipFill>
        <p:spPr>
          <a:xfrm>
            <a:off x="5562720" y="3352680"/>
            <a:ext cx="1904760" cy="32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7" name="Picture 8" descr=""/>
          <p:cNvPicPr/>
          <p:nvPr/>
        </p:nvPicPr>
        <p:blipFill>
          <a:blip r:embed="rId5"/>
          <a:stretch/>
        </p:blipFill>
        <p:spPr>
          <a:xfrm>
            <a:off x="533520" y="3886200"/>
            <a:ext cx="4381560" cy="275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AutoShape 4">
            <a:hlinkClick r:id="" action="ppaction://hlinkshowjump?jump=nextslide"/>
          </p:cNvPr>
          <p:cNvSpPr/>
          <p:nvPr/>
        </p:nvSpPr>
        <p:spPr>
          <a:xfrm>
            <a:off x="7543800" y="601992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ther Separation Methods….see the next slide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Filtration:</a:t>
            </a:r>
            <a:r>
              <a:rPr b="1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Used for separating a </a:t>
            </a:r>
            <a:r>
              <a:rPr b="0" lang="en-US" sz="31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olid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 from a liquid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Separating SAND from wa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"/>
          <p:cNvPicPr/>
          <p:nvPr/>
        </p:nvPicPr>
        <p:blipFill>
          <a:blip r:embed="rId1"/>
          <a:stretch/>
        </p:blipFill>
        <p:spPr>
          <a:xfrm>
            <a:off x="3232080" y="2286000"/>
            <a:ext cx="3397320" cy="424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1981080" y="6400800"/>
            <a:ext cx="600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moe.gov.sg/edumall/tl/digital_resources/chemistry8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4">
            <a:hlinkClick r:id="" action="ppaction://hlinkshowjump?jump=nextslide"/>
          </p:cNvPr>
          <p:cNvSpPr/>
          <p:nvPr/>
        </p:nvSpPr>
        <p:spPr>
          <a:xfrm>
            <a:off x="6858000" y="6019920"/>
            <a:ext cx="2057400" cy="457200"/>
          </a:xfrm>
          <a:prstGeom prst="rightArrow">
            <a:avLst>
              <a:gd name="adj1" fmla="val 50000"/>
              <a:gd name="adj2" fmla="val 1125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Evaporation: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Arial"/>
              </a:rPr>
              <a:t>Used to obtain the </a:t>
            </a:r>
            <a:r>
              <a:rPr b="0" lang="en-US" sz="31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solute</a:t>
            </a: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Arial"/>
              </a:rPr>
              <a:t> from a solution</a:t>
            </a: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Arial"/>
              </a:rPr>
              <a:t>	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For obtaining SUGAR (</a:t>
            </a:r>
            <a:r>
              <a:rPr b="0" lang="en-US" sz="24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solute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 from sugar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4024440" cy="389736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4">
            <a:hlinkClick r:id="" action="ppaction://hlinkshowjump?jump=nextslide"/>
          </p:cNvPr>
          <p:cNvSpPr/>
          <p:nvPr/>
        </p:nvSpPr>
        <p:spPr>
          <a:xfrm>
            <a:off x="6553080" y="6019920"/>
            <a:ext cx="2362320" cy="457200"/>
          </a:xfrm>
          <a:prstGeom prst="rightArrow">
            <a:avLst>
              <a:gd name="adj1" fmla="val 50000"/>
              <a:gd name="adj2" fmla="val 1291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imple Distillation:</a:t>
            </a:r>
            <a:r>
              <a:rPr b="1" lang="en-US" sz="27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Used to obtain the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olvent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 from a solution.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imple distillation is usually used only to separate liquids whose boiling points differ greatly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For obtaining pure water (</a:t>
            </a:r>
            <a:r>
              <a:rPr b="0" lang="en-US" sz="24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olvent)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from sea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5" descr="simple_distillation2"/>
          <p:cNvPicPr/>
          <p:nvPr/>
        </p:nvPicPr>
        <p:blipFill>
          <a:blip r:embed="rId1"/>
          <a:srcRect l="0" t="0" r="4000" b="2669"/>
          <a:stretch/>
        </p:blipFill>
        <p:spPr>
          <a:xfrm>
            <a:off x="2590920" y="2685960"/>
            <a:ext cx="5486400" cy="41720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6"/>
          <p:cNvSpPr/>
          <p:nvPr/>
        </p:nvSpPr>
        <p:spPr>
          <a:xfrm>
            <a:off x="205200" y="6400800"/>
            <a:ext cx="511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moe.gov.sg/edumall/tl/digital_resources/chemistry8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AutoShape 4">
            <a:hlinkClick r:id="" action="ppaction://hlinkshowjump?jump=nextslide"/>
          </p:cNvPr>
          <p:cNvSpPr/>
          <p:nvPr/>
        </p:nvSpPr>
        <p:spPr>
          <a:xfrm>
            <a:off x="7696080" y="601992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Fractional Distillation: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  <a:ea typeface="Arial"/>
              </a:rPr>
              <a:t>Used to separate one liquid from a mixture of different liquids using the different boiling points to help.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distillation of a mixture of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ater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and ethanol alcohol. Ethanol boils at 78.5 °C while water boils at 100 °C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1752480" y="3025800"/>
            <a:ext cx="5257800" cy="383220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4">
            <a:hlinkClick r:id="" action="ppaction://hlinkshowjump?jump=nextslide"/>
          </p:cNvPr>
          <p:cNvSpPr/>
          <p:nvPr/>
        </p:nvSpPr>
        <p:spPr>
          <a:xfrm>
            <a:off x="7086600" y="6019920"/>
            <a:ext cx="1828800" cy="4572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01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Chromatography: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Used to separate out one color from a mixture of colors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For separating out the colors in black i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3962520" cy="38653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6095880" y="5105520"/>
            <a:ext cx="12956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lack in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-571680"/>
            <a:ext cx="8458200" cy="114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D:  Summary of methods used to separate a mixtur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62120" y="806400"/>
          <a:ext cx="8381880" cy="544680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t is used 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Fil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Used for separating a </a:t>
                      </a:r>
                      <a:r>
                        <a:rPr b="0" lang="en-US" sz="20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  <a:ea typeface="Arial"/>
                        </a:rPr>
                        <a:t>solid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from a liqu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Separating SAND from wat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vapo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Used to obtain the </a:t>
                      </a:r>
                      <a:r>
                        <a:rPr b="0" lang="en-US" sz="2000" spc="-1" strike="noStrike" u="sng">
                          <a:solidFill>
                            <a:srgbClr val="000080"/>
                          </a:solidFill>
                          <a:uFillTx/>
                          <a:latin typeface="Arial"/>
                          <a:ea typeface="Arial"/>
                        </a:rPr>
                        <a:t>solute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from a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or obtaining SALT (</a:t>
                      </a:r>
                      <a:r>
                        <a:rPr b="0" lang="en-US" sz="2000" spc="-1" strike="noStrike" u="sng">
                          <a:solidFill>
                            <a:srgbClr val="000080"/>
                          </a:solidFill>
                          <a:uFillTx/>
                          <a:latin typeface="Arial"/>
                          <a:ea typeface="Arial"/>
                        </a:rPr>
                        <a:t>solute)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from salt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Simple distil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Used to obtain the </a:t>
                      </a:r>
                      <a:r>
                        <a:rPr b="0" lang="en-US" sz="20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  <a:ea typeface="Arial"/>
                        </a:rPr>
                        <a:t>solvent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from a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For obtaining pure water (</a:t>
                      </a:r>
                      <a:r>
                        <a:rPr b="0" lang="en-US" sz="20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  <a:ea typeface="Arial"/>
                        </a:rPr>
                        <a:t>solvent)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from sea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ractional distil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Used to separate one liquid from a mixture of different liquids using the different boiling points to hel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Oxygen or nitrogen is obtained from air (a mixture of different gas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Chromatograp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Used to separate out one color from a mixture of col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For separating out the colors in black 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AutoShape 4">
            <a:hlinkClick r:id="" action="ppaction://hlinkshowjump?jump=nextslide"/>
          </p:cNvPr>
          <p:cNvSpPr/>
          <p:nvPr/>
        </p:nvSpPr>
        <p:spPr>
          <a:xfrm>
            <a:off x="5334120" y="632448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xtures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are two or more substances that are not chemically combined and they can be physically separated.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 **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dd this word to your science notebook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25909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Which of the substances below are “mixture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”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nd, soil, chicken soup, pizza, chocol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ip cookies,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lt wa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920" y="4952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ll of the substances are mixtures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1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Activity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parating  A Salt and Water Mixtur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  Go to the site below and read about the ways to separate salt from water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.  Complete the interactive section at the bottom of the page (question 14)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resources.schoolscience.co.uk/ICI/11-14/materials/match3pg1.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Brain Storm!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ow would you go about separating a mixture of </a:t>
            </a: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salt and sand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th your group, list the procedure you would follow in your notebook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eck your method by comparing it to the method presented at the website below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zephyrus.co.uk/separatingmixtures3.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Conclusions: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Copy and answer this question in your science notebook. 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82736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6666"/>
                </a:solidFill>
                <a:uFillTx/>
                <a:latin typeface="Verdana"/>
              </a:rPr>
              <a:t>Complex Mixture Separation: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ould you separate a sand, salt, iron filings and marbles mixture? Explain, using pictures or diagrams to help your answ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YOU COMPLETED THE LESSON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ease see Mr. Mihalyov to share what you learned and determine your next ste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n a  </a:t>
            </a: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mixture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 ….</a:t>
            </a:r>
            <a:br>
              <a:rPr sz="44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33520" y="2805120"/>
            <a:ext cx="8305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*Each substance in the mixture keeps its individual properties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85800" y="4343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*The substances can be separated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by physical mean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Think about </a:t>
            </a:r>
            <a:r>
              <a:rPr b="0" i="1" lang="en-US" sz="2800" spc="-1" strike="noStrike" u="sng">
                <a:solidFill>
                  <a:srgbClr val="006666"/>
                </a:solidFill>
                <a:uFillTx/>
                <a:latin typeface="Arial"/>
              </a:rPr>
              <a:t>why</a:t>
            </a: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 they are mixtures?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 OF MIXTURES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6" descr="conglomeraterockimage"/>
          <p:cNvPicPr/>
          <p:nvPr/>
        </p:nvPicPr>
        <p:blipFill>
          <a:blip r:embed="rId1"/>
          <a:stretch/>
        </p:blipFill>
        <p:spPr>
          <a:xfrm>
            <a:off x="914400" y="2133720"/>
            <a:ext cx="2708280" cy="1646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pepsioneimage"/>
          <p:cNvPicPr/>
          <p:nvPr/>
        </p:nvPicPr>
        <p:blipFill>
          <a:blip r:embed="rId2"/>
          <a:stretch/>
        </p:blipFill>
        <p:spPr>
          <a:xfrm>
            <a:off x="4648320" y="4267080"/>
            <a:ext cx="650880" cy="1235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amburgerimage"/>
          <p:cNvPicPr/>
          <p:nvPr/>
        </p:nvPicPr>
        <p:blipFill>
          <a:blip r:embed="rId3"/>
          <a:stretch/>
        </p:blipFill>
        <p:spPr>
          <a:xfrm>
            <a:off x="6095880" y="2286000"/>
            <a:ext cx="2194200" cy="1646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991440" y="3886200"/>
            <a:ext cx="250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R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ixture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kinds o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734280" y="5638680"/>
            <a:ext cx="257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SO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ixture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ar and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790240" y="4114800"/>
            <a:ext cx="325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SANDWI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ix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read, meat, tom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4">
            <a:hlinkClick r:id="" action="ppaction://hlinkshowjump?jump=nextslide"/>
          </p:cNvPr>
          <p:cNvSpPr/>
          <p:nvPr/>
        </p:nvSpPr>
        <p:spPr>
          <a:xfrm>
            <a:off x="6477120" y="6019920"/>
            <a:ext cx="2438280" cy="457200"/>
          </a:xfrm>
          <a:prstGeom prst="rightArrow">
            <a:avLst>
              <a:gd name="adj1" fmla="val 50000"/>
              <a:gd name="adj2" fmla="val 1333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294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Activity 1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90360" y="342756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000000"/>
                </a:solidFill>
                <a:uFillTx/>
                <a:latin typeface="Verdana"/>
              </a:rPr>
              <a:t>Internet Activity: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Mixtures, Substances, Elements, and Compound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tion to Internet Activ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t’s pretend we have an extremely powerful microscope that can allow us to see the atoms of various thing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llowing website should allow us to see the differences in elements, compounds, and mixt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net Activ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he link below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n, close the website (x out) and  come back to the PowerPoint when you have finished the activ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Mixtures, Compounds, Elements Websi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There are  2 types of mixtures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2:48:28Z</dcterms:created>
  <dc:creator>ccps</dc:creator>
  <dc:description/>
  <dc:language>en-US</dc:language>
  <cp:lastModifiedBy>ccps</cp:lastModifiedBy>
  <dcterms:modified xsi:type="dcterms:W3CDTF">2009-12-16T20:26:16Z</dcterms:modified>
  <cp:revision>25</cp:revision>
  <dc:subject/>
  <dc:title>Slide 1</dc:title>
</cp:coreProperties>
</file>